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223-82A6-4CDB-9361-D98CDA09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F576-81D3-4503-BE0E-0BFDC5CD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EB34-12D2-495E-9B77-1FC94BFC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3653-768B-4655-BE43-B27709FE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E68B-4EEA-4A89-9119-737E3E17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41FA-3598-4326-B5F8-DBC0D433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183F-ECB8-4C8C-909E-F7BC9C87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E068-3318-429E-82BC-12FAEA68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1EAE-EC9C-4EC4-9E1E-62104A1B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6CEC-0855-4C57-B3DE-3E3C81D2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4DCB-F4D0-4C73-A75D-5D22E479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5E3-FBD0-441C-BEBA-C8155094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3436-19C9-4913-B585-A87866DA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6846-4D31-4440-96C8-CC55756F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296E-3B0D-40B2-BEB3-7531C72F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EFE4-8954-4712-ADDD-488A782A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2E0A-FCBD-46E9-AF61-90F6082F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F1BC-5D82-4DBA-A102-AEEFFC65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2530-7319-49FA-B2F6-FC7A5B19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A82-9C23-4B15-AB60-ACE0C6ED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F793-1DAF-4D7D-B820-516821F9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F747-4824-4B9B-9059-B33F5D90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0916-E10B-41CD-AE9D-8AE087C4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6EC-DA32-43DD-B671-0490C2FD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6391-546C-4075-B553-D09FF0E6DF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7134-D05D-48E6-A26E-4B5ED25E958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08DD-B2B4-4959-96ED-524B19616B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384F-3619-4FED-8012-A7D34145CB9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TextBox 5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28760" y="13572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1143000" y="1928880"/>
            <a:ext cx="478620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αμβανε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δασκομε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ουσι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χετ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επω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ει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is thr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h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l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000680" y="19922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(she, it) is taking (receiv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000680" y="249228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000680" y="299232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 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000680" y="349236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pl.)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4013280" y="39672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4013280" y="44546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s.) un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4033800" y="497988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λλε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4027320" y="545472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χουσι(ν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4038480" y="594216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ομε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Practice </a:t>
            </a:r>
            <a:fld id="{DD719EDB-BC12-4E4A-9F5B-9CBCEE152FE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9" name="TextBox 3"/>
          <p:cNvSpPr/>
          <p:nvPr/>
        </p:nvSpPr>
        <p:spPr>
          <a:xfrm>
            <a:off x="-130320" y="208080"/>
            <a:ext cx="90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Gentium"/>
              </a:rPr>
              <a:t>-</a:t>
            </a:r>
            <a:r>
              <a:rPr b="1" lang="el-GR" sz="36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1" lang="en-GB" sz="36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428760" y="13572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1143000" y="1928880"/>
            <a:ext cx="478620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ου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ειτ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λ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ηρουμ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ητω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αλ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 spe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is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pl.) s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4386240" y="19922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l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4386240" y="249228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pl.) are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4322880" y="299232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(she, it) is c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4386240" y="349236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keep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4398840" y="39672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se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4398840" y="44546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s.) are spea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4419720" y="4979880"/>
            <a:ext cx="50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αλουσι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4413240" y="545472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ε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"/>
          <p:cNvSpPr/>
          <p:nvPr/>
        </p:nvSpPr>
        <p:spPr>
          <a:xfrm>
            <a:off x="4424400" y="594216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ητειτ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Practice </a:t>
            </a:r>
            <a:fld id="{9C6D4233-CD0B-4315-83C5-1C07A56775F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TextBox 3"/>
          <p:cNvSpPr/>
          <p:nvPr/>
        </p:nvSpPr>
        <p:spPr>
          <a:xfrm>
            <a:off x="-604800" y="227160"/>
            <a:ext cx="9286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28760" y="13572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case and number are the following words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1071720" y="2071800"/>
            <a:ext cx="478620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γελ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ραν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υἱ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χλ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ουλ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ομ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4000680" y="212076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000680" y="26208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000680" y="31212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4000680" y="36212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4013280" y="409572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4013280" y="458316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4033800" y="51084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3"/>
          <p:cNvSpPr/>
          <p:nvPr/>
        </p:nvSpPr>
        <p:spPr>
          <a:xfrm>
            <a:off x="4027320" y="55832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Practice </a:t>
            </a:r>
            <a:fld id="{69115F92-C5AA-49D5-8338-DF710BBD05C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6"/>
          <p:cNvSpPr/>
          <p:nvPr/>
        </p:nvSpPr>
        <p:spPr>
          <a:xfrm>
            <a:off x="4417920" y="621504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ος ἀγει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Box 3"/>
          <p:cNvSpPr/>
          <p:nvPr/>
        </p:nvSpPr>
        <p:spPr>
          <a:xfrm>
            <a:off x="-282600" y="208080"/>
            <a:ext cx="8628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3 THE NOMINATIVE AND ACCUSATIVE CASES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357120" y="125244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214200" y="1714680"/>
            <a:ext cx="47865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δελφος διδασκει ὀχλου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ητουμεν ἀρτ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ουλους λυει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υριος λεγει λογ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θρωποι καλουσι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γελοι τηρουσιν νομου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rother sees a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are wat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love a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d le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425840" y="1779480"/>
            <a:ext cx="51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rother is teaching crow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425840" y="22795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seeking b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4425840" y="2779560"/>
            <a:ext cx="51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s.) are untying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4425840" y="32796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ord says a 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4425840" y="37800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are cal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1"/>
          <p:cNvSpPr/>
          <p:nvPr/>
        </p:nvSpPr>
        <p:spPr>
          <a:xfrm>
            <a:off x="4425840" y="42800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gels are keeping la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2"/>
          <p:cNvSpPr/>
          <p:nvPr/>
        </p:nvSpPr>
        <p:spPr>
          <a:xfrm>
            <a:off x="4425840" y="478008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δελφος βλεπει οἰκον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4425840" y="528012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θρωποι βλεπουσιν.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4"/>
          <p:cNvSpPr/>
          <p:nvPr/>
        </p:nvSpPr>
        <p:spPr>
          <a:xfrm>
            <a:off x="4425840" y="577224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ουμεν κοσμον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Practice </a:t>
            </a:r>
            <a:fld id="{2321EE8E-1458-423C-857D-7427B643F39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4" name="TextBox 4"/>
          <p:cNvSpPr/>
          <p:nvPr/>
        </p:nvSpPr>
        <p:spPr>
          <a:xfrm>
            <a:off x="-130320" y="208080"/>
            <a:ext cx="906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DEFINITE ARTIC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428760" y="13572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141120" y="1906560"/>
            <a:ext cx="478656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υἱοι ἐχουσιν οἰκ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λειτε τον ἀδελφ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θεος ποιει τους οὐραν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ει ἀγγελος ὀχλ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κυριος ἀκου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seeking the Messiah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ons are speaking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eople love Go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4367160" y="19922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ons have a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4367160" y="25002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pl.) are calling a br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4289400" y="299232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d is making the heav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4392720" y="349236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ngel is leading crow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1"/>
          <p:cNvSpPr/>
          <p:nvPr/>
        </p:nvSpPr>
        <p:spPr>
          <a:xfrm>
            <a:off x="4392720" y="39672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ord is list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4392720" y="4454640"/>
            <a:ext cx="50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ητουμεν τον Χριστ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4392720" y="4979880"/>
            <a:ext cx="50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υἱοι λαλουσιν λογους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4392720" y="5454720"/>
            <a:ext cx="50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ανθρωποι φιλουσι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ν θεον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Practice </a:t>
            </a:r>
            <a:fld id="{CA676EAE-3DEE-4C2F-A60E-8B1AFE89108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1:05:07Z</dcterms:created>
  <dc:creator>Sarah</dc:creator>
  <dc:description/>
  <dc:language>en-US</dc:language>
  <cp:lastModifiedBy>Sarah</cp:lastModifiedBy>
  <dcterms:modified xsi:type="dcterms:W3CDTF">2009-07-11T19:40:08Z</dcterms:modified>
  <cp:revision>48</cp:revision>
  <dc:subject/>
  <dc:title>Slide 1</dc:title>
</cp:coreProperties>
</file>